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2B2B-D46B-4CD3-ADAD-B3B56437E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6314-689A-44CF-914B-5F8B9B6887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A4C0-74CD-4CFB-AA5C-8BADD10594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F40A-7FAD-4F4D-ABA1-7EA5B79368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CA40-1CB6-469F-A997-EBBF6F85B1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2743-8E96-40E9-9D7B-17571EF128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F599-C387-455B-A83E-AA80673F1F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6932-B55F-4C7E-9F6D-9DEE3CE7D8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F82-A23C-43DD-8098-6C0E7D7E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6D4-8775-4E70-AA7F-4A6CD91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05E-9040-4028-9BD6-11E826FC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A6A-E614-4DB0-9CAE-A61172E0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A0168-3F0B-4155-A87F-3B016310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7352A-D6D8-4007-887F-379A7086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D9E01-10C2-4BAE-BE78-F6ECF2EA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1F73D-AC4B-4F20-BF1C-0ED2DF26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5F95A-AD9B-4349-9EC3-89950366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32509-0B49-48C6-ABD0-2B8F31CA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5E5FF-B702-47B9-ACD4-0CAA4A8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8AD-3DCD-4A58-895F-5928C717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5DF1C-6984-4BCF-8E5E-D0A554D2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AD188-BA30-4B60-9A58-726BB74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475F9-8ADF-451E-B3EB-EDA3E337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F2FF5-02D1-418B-B7F7-07FBB566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464BA-98B0-4DCE-B8B1-61AE4A03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44123-5157-4B67-9B46-8FA9ACC6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B4DA0-4EAF-427F-B03D-7A1DAE84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7ABF6-E2F0-43E7-8087-FCE5146A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145BA-7987-4E20-B056-3346ABAB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55AC6-1E97-4B4E-8AD2-668E206D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073-E044-46B2-B74E-369A3650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FC974-9E56-4249-88C6-49001866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2BE4F-BEB3-4DF2-B121-E10A6A4F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73FC2-6A90-4BE2-9FA8-D6EED16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60D01-DBCF-4380-B25B-A05E2D9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1D3E9-DFEA-4CE9-B55A-C83739CD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DAE61-38DD-42AC-82D7-30E2B2AF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9F9BD-99BC-46CC-9134-76CF4110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903EC-422B-4C6A-9E53-8A9FB219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27178-51A1-4988-9FD9-D932CDBF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8E1B6-38FA-4AE9-9DE2-D2EBF7B7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361-CCF8-4038-8099-CF5E2BC2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7B773-2A44-433E-9F6A-DE2824B1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EFDA0-8275-406A-BF31-10ED5765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0CF2E-62B8-40B6-A964-92E32C37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F8EE1-005D-4A94-BEAC-C60D9FC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C36857-1B9B-4CA8-B237-47A30D24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310016-D41D-4097-967C-1E33C44B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48383-1447-4831-AF58-01E5CD7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98C1A-2F07-4E8E-A3B4-624313AF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FE3DE-25F8-4D14-B0FB-30F64FEB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FE01B-33A4-4614-ADBF-6BD3A4A0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131-06A4-478C-AC7D-4AEB697E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69AEA-F2CD-4457-9C40-ECB8FB61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82CF5-8FE3-470B-A153-E3D4147E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C6097-B768-49E4-9416-3648D825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98253-BBDD-48BA-9D0F-82777DEB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BF844-8C90-4070-9392-83AD4545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3AD28-C4E0-4CB5-AD3A-7C8DA70A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A4F02-D4A3-42EA-8DAC-4B0DBF8A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748C6-FA88-402A-AC95-67807CF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CAC40-F40F-45CC-8076-726C36A0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E07D4-E342-403A-8F91-97CFB50D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183-0677-472B-B3B3-320F66DE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A0B6E-0F2A-425B-8777-2E608590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46BD5-AE5B-41EF-BE68-82846236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712E1-3FFC-43E3-8EF0-FED0B729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02A2A-314B-44FA-AA1D-AC275993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7B407-680D-4713-BB6D-681DB623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7A935-D443-48C7-9874-D786BEE0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71846-66A2-4D6B-B1C6-36D68907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D25226-7A28-42CC-91C1-8C9B34BA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4A9CB-7921-4828-8496-A593C9B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D10D5-0B39-4F82-8851-F79236BA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2B5-7976-41FC-80BB-E5272C38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A5273-BAAA-4957-9B04-23749287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E1A7A-CA2C-46B9-8C2D-38B8B6DF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6FA90-A779-4BF3-8904-91AA375B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8DB-6972-40DD-8B40-D3B4E5A4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B17-DD16-4297-8BDC-C7988D50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B0BE-2B44-4007-94CB-87B3ECC188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AA66-C840-41EC-B745-F10A95DA3A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6038-BF0C-4F9D-89E5-F558625E41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CDA8-F308-4CB7-89EC-A7E6562682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34FF-87A9-4984-BB5C-DA29A06555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98EF-2026-48BB-BF6F-E2BC8317A5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0240" y="23004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nergy Bar Charts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122560" y="32191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How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to quantify and represent energy storage and transfer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681120" y="603720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1360" y="220320"/>
            <a:ext cx="8236080" cy="15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And that’s it are you </a:t>
            </a:r>
            <a:br>
              <a:rPr sz="4900"/>
            </a:b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ready to try it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95160" y="632628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4720" y="685800"/>
            <a:ext cx="7184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Palatino Linotype"/>
              </a:rPr>
              <a:t>(Additional materials available in members’ resources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58480" y="1494000"/>
            <a:ext cx="88851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sider this example: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b666"/>
                </a:solidFill>
                <a:latin typeface="Century Schoolbook"/>
              </a:rPr>
              <a:t>A hot cup of hot chocolate is left on a    countertop for an hour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6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ou’re going to depict energy before it placed on the counter and again after an hour using a bar graph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17680" y="403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tructing an Energy Bar Chart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4" name="Picture 2" descr="Screen Clipping"/>
          <p:cNvPicPr/>
          <p:nvPr/>
        </p:nvPicPr>
        <p:blipFill>
          <a:blip r:embed="rId1"/>
          <a:stretch/>
        </p:blipFill>
        <p:spPr>
          <a:xfrm>
            <a:off x="2232000" y="4903920"/>
            <a:ext cx="5091120" cy="16081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7"/>
          <p:cNvSpPr/>
          <p:nvPr/>
        </p:nvSpPr>
        <p:spPr>
          <a:xfrm>
            <a:off x="2324160" y="444168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681120" y="651204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2"/>
          <a:stretch/>
        </p:blipFill>
        <p:spPr>
          <a:xfrm>
            <a:off x="841320" y="1871640"/>
            <a:ext cx="914400" cy="129528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2"/>
          <p:cNvCxnSpPr/>
          <p:nvPr/>
        </p:nvCxnSpPr>
        <p:spPr>
          <a:xfrm flipH="1">
            <a:off x="3644640" y="4362480"/>
            <a:ext cx="645120" cy="7358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29" name="Straight Arrow Connector 4"/>
          <p:cNvCxnSpPr/>
          <p:nvPr/>
        </p:nvCxnSpPr>
        <p:spPr>
          <a:xfrm>
            <a:off x="5263920" y="4287960"/>
            <a:ext cx="664200" cy="700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33240" y="65232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irst determine what is in the system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what specifically are we considering)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verything else makes up the surroundings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 keep it simple and clear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272880" indent="-25524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define your system as just the cup of hot cocoa. </a:t>
            </a:r>
            <a:endParaRPr b="0" lang="en-US" sz="2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Define the system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2" name="Picture 2" descr="Screen Clipping"/>
          <p:cNvPicPr/>
          <p:nvPr/>
        </p:nvPicPr>
        <p:blipFill>
          <a:blip r:embed="rId1"/>
          <a:stretch/>
        </p:blipFill>
        <p:spPr>
          <a:xfrm>
            <a:off x="1943280" y="4097160"/>
            <a:ext cx="5090760" cy="16084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2247840" y="372744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776760" y="4503600"/>
            <a:ext cx="14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ot coco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681120" y="634536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6" name="Straight Arrow Connector 2"/>
          <p:cNvCxnSpPr/>
          <p:nvPr/>
        </p:nvCxnSpPr>
        <p:spPr>
          <a:xfrm flipH="1">
            <a:off x="4527000" y="3460680"/>
            <a:ext cx="130680" cy="975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64840" y="1425600"/>
            <a:ext cx="8015400" cy="28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this case, we know the hot cocoa is initially a pretty hot liquid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nd we know that if it is a liquid that means it has more energy than solid, but less energy than a gas.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293760"/>
            <a:ext cx="792468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ide how ENERGY is involved initially 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36680" y="644832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2394000" y="4010040"/>
            <a:ext cx="46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            Liquid            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 flipV="1">
            <a:off x="2287440" y="4427280"/>
            <a:ext cx="4629240" cy="270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187720" y="4522680"/>
            <a:ext cx="5346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3267000" y="3819600"/>
            <a:ext cx="3354480" cy="2857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275760" y="849240"/>
            <a:ext cx="85964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is energy we are talking about is called Thermal Energy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rmal Energy can be thought of as the sum of all the particles energy.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  more the particles move -&gt; the greater the temperature -&gt; the greater thermal energy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53460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Determine Initial Thermal Energy (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Palatino Linotype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07520" y="901440"/>
            <a:ext cx="80154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o let’s quantify the thermal energy.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quantify this internal particle energy (E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) we’ll use different sized bars to go with each phase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5520" y="0"/>
            <a:ext cx="792468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Quantify Thermal Energy 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436680" y="644832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676440" y="2430360"/>
            <a:ext cx="82580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(Additional materials available in members’ resour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45352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come back to our bar chart and Determine the Initial 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2" descr="Screen Clipping"/>
          <p:cNvPicPr/>
          <p:nvPr/>
        </p:nvPicPr>
        <p:blipFill>
          <a:blip r:embed="rId1"/>
          <a:stretch/>
        </p:blipFill>
        <p:spPr>
          <a:xfrm>
            <a:off x="1943280" y="4097160"/>
            <a:ext cx="5090760" cy="16084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2247840" y="360360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776760" y="4503600"/>
            <a:ext cx="14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ot coco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681120" y="634536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Rectangle 1"/>
          <p:cNvGrpSpPr/>
          <p:nvPr/>
        </p:nvGrpSpPr>
        <p:grpSpPr>
          <a:xfrm>
            <a:off x="2163600" y="4816440"/>
            <a:ext cx="476280" cy="907920"/>
            <a:chOff x="2163600" y="4816440"/>
            <a:chExt cx="476280" cy="907920"/>
          </a:xfrm>
        </p:grpSpPr>
        <p:pic>
          <p:nvPicPr>
            <p:cNvPr id="356" name="Rectangle 1" descr=""/>
            <p:cNvPicPr/>
            <p:nvPr/>
          </p:nvPicPr>
          <p:blipFill>
            <a:blip r:embed="rId2"/>
            <a:stretch/>
          </p:blipFill>
          <p:spPr>
            <a:xfrm>
              <a:off x="2163600" y="4816440"/>
              <a:ext cx="476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260440" y="4879800"/>
              <a:ext cx="27972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TextBox 2"/>
          <p:cNvSpPr/>
          <p:nvPr/>
        </p:nvSpPr>
        <p:spPr>
          <a:xfrm>
            <a:off x="2075040" y="560700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9" name="Straight Arrow Connector 4"/>
          <p:cNvCxnSpPr/>
          <p:nvPr/>
        </p:nvCxnSpPr>
        <p:spPr>
          <a:xfrm>
            <a:off x="1068120" y="2724120"/>
            <a:ext cx="1067400" cy="20613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60" name=""/>
          <p:cNvSpPr txBox="1"/>
          <p:nvPr/>
        </p:nvSpPr>
        <p:spPr>
          <a:xfrm>
            <a:off x="635040" y="1384200"/>
            <a:ext cx="79596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(Additional materials available in members’ resourc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7960" y="233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 about what’s happening to the cocoa as it sits the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2" name="Picture 8" descr="Screen Clipping"/>
          <p:cNvPicPr/>
          <p:nvPr/>
        </p:nvPicPr>
        <p:blipFill>
          <a:blip r:embed="rId1"/>
          <a:stretch/>
        </p:blipFill>
        <p:spPr>
          <a:xfrm>
            <a:off x="2247840" y="4019400"/>
            <a:ext cx="4998960" cy="15019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5"/>
          <p:cNvSpPr/>
          <p:nvPr/>
        </p:nvSpPr>
        <p:spPr>
          <a:xfrm>
            <a:off x="4111560" y="458136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ot Coco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416320" y="4737240"/>
            <a:ext cx="347400" cy="677880"/>
          </a:xfrm>
          <a:prstGeom prst="rect">
            <a:avLst/>
          </a:prstGeom>
          <a:solidFill>
            <a:srgbClr val="4a8ef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2247840" y="360360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 rot="12635400">
            <a:off x="4830840" y="4154040"/>
            <a:ext cx="311040" cy="227160"/>
          </a:xfrm>
          <a:prstGeom prst="rect">
            <a:avLst/>
          </a:prstGeom>
          <a:solidFill>
            <a:srgbClr val="4a8ef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Isosceles Triangle 12"/>
          <p:cNvGrpSpPr/>
          <p:nvPr/>
        </p:nvGrpSpPr>
        <p:grpSpPr>
          <a:xfrm>
            <a:off x="4791240" y="3846600"/>
            <a:ext cx="542880" cy="566640"/>
            <a:chOff x="4791240" y="3846600"/>
            <a:chExt cx="542880" cy="566640"/>
          </a:xfrm>
        </p:grpSpPr>
        <p:pic>
          <p:nvPicPr>
            <p:cNvPr id="368" name="Isosceles Triangle 12" descr=""/>
            <p:cNvPicPr/>
            <p:nvPr/>
          </p:nvPicPr>
          <p:blipFill>
            <a:blip r:embed="rId2"/>
            <a:stretch/>
          </p:blipFill>
          <p:spPr>
            <a:xfrm>
              <a:off x="4791240" y="3846600"/>
              <a:ext cx="542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 rot="1834800">
              <a:off x="4987800" y="4067280"/>
              <a:ext cx="1508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4"/>
          <p:cNvSpPr/>
          <p:nvPr/>
        </p:nvSpPr>
        <p:spPr>
          <a:xfrm>
            <a:off x="681120" y="633096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2305080" y="554832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2" name="Straight Arrow Connector 2"/>
          <p:cNvCxnSpPr/>
          <p:nvPr/>
        </p:nvCxnSpPr>
        <p:spPr>
          <a:xfrm>
            <a:off x="3792600" y="3330360"/>
            <a:ext cx="993960" cy="6274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73" name=""/>
          <p:cNvSpPr txBox="1"/>
          <p:nvPr/>
        </p:nvSpPr>
        <p:spPr>
          <a:xfrm>
            <a:off x="776160" y="1501560"/>
            <a:ext cx="7832880" cy="21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(Additional materials available in members’ resourc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93440" y="743040"/>
            <a:ext cx="8258040" cy="31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(Additional materials available in members’ resourc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16040" y="363240"/>
            <a:ext cx="794232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Assign a final energy value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2320" y="631332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21:37:46Z</dcterms:created>
  <dc:creator>Erin Conrardy</dc:creator>
  <dc:description/>
  <dc:language>en-US</dc:language>
  <cp:lastModifiedBy>Jeffrey Hengesbach</cp:lastModifiedBy>
  <dcterms:modified xsi:type="dcterms:W3CDTF">2017-04-09T22:05:19Z</dcterms:modified>
  <cp:revision>72</cp:revision>
  <dc:subject/>
  <dc:title>Energy Bar Graphs</dc:title>
</cp:coreProperties>
</file>